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A2C2-5DB3-4003-A47E-7CAF613F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22D1-DC2D-451E-AC44-CF3D3B52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D0066-BAE3-4846-92A7-A381D560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C3190-4779-4975-BFEE-785728B6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B491E-5800-4255-9B03-E56936AC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7A8E1-91FD-4816-9BD6-210879F8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4F1A1-4F3F-4CDE-A47A-35B356C5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9936F-E6B8-4662-9C63-CE3002CD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CC230-09E2-4422-930E-A04F3DF2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D1318-C96E-4748-8CEE-ED50F1AA0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3FC49-8CD9-425B-94DC-76E3E697F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75D84-80C2-4746-967F-DD1FF794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5BF8-9C0C-4144-9C32-AB9333349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8864F-A153-4164-B463-B6F3D92E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E2454-5382-42FA-AEE1-252537C4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1FE585-964B-4EB1-B6B5-B59497AC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4DEF8-553B-419E-83D0-09E2F1D5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991ED-D005-49F1-89CA-DAEE65E0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8AC8F-0521-4D15-9710-61C2AB69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A2FF0-F133-433F-8ED2-939A59A1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99E2E-5B92-4BA1-B401-C816536E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57AC4-537A-4F02-9637-4A52DCD6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EF890-E41B-444A-BEF2-029DAF144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6BBD-61CB-4893-A46D-070143EFF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8C8657-18DD-4F0B-BB69-2E4ED7A2C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C94BB-3759-4B8F-ADBC-A062C2F4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C3585-A210-4A0B-A9F0-B291E133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A0D51-5BA6-478C-A1BA-C5137629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D5924-7917-4450-B603-72226E14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266CE-65B4-4228-AD15-8D10E55D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9046F-EED6-44B7-BDB2-53839260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A7B3F-9EA4-477D-8247-624264DD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75771-186F-4BC3-B60C-35FDCFBB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16270-6AD4-46BF-B7E4-70B8D1C0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FBDA-1BDA-483D-9E96-A80943F8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5DB02-7C99-45D0-A245-00BA0EB7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B4591-CCA0-4FDE-970D-D0FEBD9E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4005A-D3F5-4C07-87DE-03BF80B5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5834D8-07CC-4980-A41D-EB9B790A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80B74-BDBB-4BC2-8911-96C7C788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74877-C956-4F14-BD9D-9AF97271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89678E-4766-466D-B312-6BBE7FCD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BC7F82-990F-4BB8-A5F8-EBDCCFFC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B3F35-24B3-42FE-A91C-6C16B49F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D701B-D063-4526-B0F3-00300874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3BD6-5A06-4BBE-88C0-D9C5A26A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1ACB4-1C56-408C-BE36-FA161D73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070C97-FDF8-428B-BE54-965A2449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74F54-6439-416B-BD95-E1F02315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251669-0F40-439B-998E-B4793822F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00A2E-8803-4C85-A22E-ADD7E2AB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9EF507-9D35-4E2C-AAF1-1F575A57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6DF7CF-7F96-492A-A2AE-57775177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B1980E-C8AD-4A2B-AD3F-0AF7F6C6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692252-AF73-469B-BC06-89C7479F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3BD3E3-CF3D-4C77-9AD8-1AF0139D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0140-935F-431E-8C27-DA6EAA29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13B08D-22EF-4FB5-BB66-9095436B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6F09C1-3C8C-46C8-9779-3381F976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2F7251-5224-4C65-B03D-2F8833E1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024F8B-14B5-42FE-92DD-FB457470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42EAED-272B-4C75-B6EC-BC04AA86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EB86F6-5F93-4C0F-80D7-D210F802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342A7E-40BD-4386-83C5-4A3E011DE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6D466B-C603-452C-AFE6-D98F19BAA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DCBAEC-34A9-4127-8800-F9811D3C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877347-9D8C-48B3-BFF5-3B339C53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E14F-ECAB-4202-B6EC-720CC65C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C8FBC6-5772-490B-999C-6CEE7060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C6775F-C411-4885-9575-A4D371DA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1B80D0-BEBB-4DAD-AC8F-22329844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EE1290-933E-46E0-82E7-D39B2C98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7FAF51-98EF-444B-A232-0E46A2E6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CA1E52-288B-4EBE-A39E-EC276CF9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7BCA42-E1CF-4A40-9080-2A5A767C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58420A-D702-45DD-9AD3-C8EEFCC9E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2A50AE-C957-44BC-9980-357B69FDC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2B1117-0451-4418-9935-5A473045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AE23-56CD-4EC3-B5BD-56D0D867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AEBA58-1901-429F-8C0B-4FAFB949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505CEF-7E05-42DA-9527-17F478A8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F4B252-DBEC-420F-8937-30B85A3B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CA13B6-4ADC-441B-B41F-6DA08E9A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B75D28-C459-4FDA-82E3-54C66556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CD0D30-6CD5-4B8C-839B-7E96DB61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F2C5EC-2911-463A-B4F9-A72ABF8D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4A6DA2-36BA-4658-B183-97A1BAED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DCFECA-E671-4487-9692-84D83A4D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9A10E4-967F-411F-B32C-F4C76350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6854-7434-4429-999F-3043DD0F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CA356A-3637-4AEA-B6D8-AE6311CF8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C0096A-A9B0-458D-A118-4024D50A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E19E36-EDAE-4184-97F3-A4F330D3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6A22E5-EBFC-484C-84B5-BE7824CA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E04055-5BFC-46D8-A312-5D98F93B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606FE2-26B8-4DD4-B6FD-BC85ED61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0CEE67-389C-4E11-B0A7-E8C12DD5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A77703-130F-4D1D-9D01-E1D0AE48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4DB696-BF07-4B29-8FF0-776429B6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86C58B-4301-4C5D-8405-EFAB39D0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8A9F-0482-4671-B359-2800348C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ADB6B9-7D69-436C-9273-8BD0B8E2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9786B7-FBE8-4340-9FA3-14D8DF5E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664252-59A1-472B-8670-D8E262315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1C5C23-9975-46B5-A00C-24B91CFB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21B541-469E-4A4C-9C8F-A3489207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1AD77F-61F0-484D-BFFF-68ADB296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4D29E1-9C8F-46D4-A144-FE8FDC20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99630F-98CB-4D14-B78E-438074AA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E58FEB-266C-4BA2-9B2D-35D30B97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72ABED-4256-46D1-9C60-A14B4A79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BF1B-8DCE-49E8-9A6D-9A092C04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DFA1-B559-4F04-8CC0-25C518D4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1F4364-7FA2-40FA-8532-380D9527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2B1523-78D6-4352-8990-D197F4AF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281542-35A6-47B5-B293-9D6E6991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BF587A-6824-4804-94EE-D946964B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DFFD86-FE44-43CD-B279-449037A84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443469-077A-497E-8F8F-2588F1A9F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E1E53E-0F2D-47D1-AE79-B44D78A1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F34B79-1725-4717-9089-B9FFEC1C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8262F2-7AAB-498A-AD0B-2D7EF9D0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2D55F6-19A0-41CC-BC2E-8E34DDE2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9D17-BCBF-476E-9A79-1A1AC96C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09AEA1-E7DA-44BE-BBDB-52466453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714E2B-4286-4798-9287-792E1D44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B27F62-6558-4011-8F3A-5091B715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D333CC-4021-42E2-A25C-F5420A8B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608494-BAFB-47E3-8FA1-998C24C2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579725-C8EB-4567-A12F-C0884EDF1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128C5F-F9FD-417E-B053-BFA32945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DD4144-B438-4C63-AA3F-B33AFBCB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8BB29F-318F-4982-A212-F68D6AD7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FE9E58-38E3-4F46-A347-9B3AF4DC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63D2-C9E3-4E87-A0C0-02E5B5E8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8A9FC2-9424-4339-BF32-7AD769D8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A735D0-A38A-4E82-8C67-905AB4E4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A0257E-FD7E-4390-B831-5790ADA0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E8C9DA-9FFD-427B-A690-5474A888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38E4C3-59B0-4E81-AC7D-CD4EFF0A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4AE672-A3BF-4770-A9F3-792E154F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EB7C8F-07E5-4E19-9560-96A12133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962D88-31D5-4F48-8E6C-31A6EEDB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60081D-09B7-4ED6-9BDF-DE834B5FF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58E69B-C3ED-4E5C-A22E-8E640A70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CB0C-D9BC-4F57-862C-43C374DE7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9D3BF2-9F0F-4D8B-84A9-F7A6638E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0377C6-06F6-4FD3-9F44-5CDD6066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AA8C99-466E-4B0F-A4D6-757E410C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79890D-A333-4740-B5F2-FB481E35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058669-C3AA-4DB3-8A28-B51BB13C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D0DB15-3CC1-4158-B90E-DE87B060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637711-B77C-41C9-ACA9-E446C3BD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B436B1-4D4E-4DBC-B325-6D7DE73F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E8497B-C2B8-4078-910D-29AAA329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8F7D1A-6287-41CE-999B-3840512D6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C83D-3C39-46A7-B10F-C864989BB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EED768-1189-4932-8200-B7FD8157C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0774B5-E4F1-43E4-A925-42B329BD2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439596-CAF6-4398-A7CE-EF514177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75A85A-9BD7-4D90-826A-526FB9F9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1849CC-83D4-406A-B07D-0208A336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EF509F-BD2A-405A-864E-6C28F791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C39FD5-4164-49D9-A571-F93770C6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CD2B7B-6452-4574-9CFC-3327C697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A688FE-DD7E-4E3A-9475-6F26FCAA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D6A7EB-045D-4BDD-8425-02550B28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E16BF-AA51-47E6-82C5-8661DCAED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C1E838-9B34-45A4-B97B-8D69CBFD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97EECC-20E0-48FD-B7C7-0A5B6BB7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1AD04B-2840-458B-97B8-1CE7792A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FFD88-15B8-4F64-A46D-22B96E33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D6BD5-6D33-4F79-A170-73A1C7B0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B0795-1314-4742-8DEF-03E6D1DD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A1CA9-0658-45E6-9F32-9E2D5EBB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218D-1C29-49A4-9600-9D4340BB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A1A9E-68EF-48D3-9E48-3A94BD11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80F52-4F9A-43BE-AA88-78A3C22A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1DD1B-B8BD-498F-B041-7B1A9BDF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5BBF7-B58F-41F1-992E-4D84594A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C708F-80A5-4718-87B1-DBCE14E4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ADB53-623B-4362-94F0-27F085F4A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68DDD-B6CE-44B8-92D8-0D3AC0A7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CEE58-3290-4CD4-95A0-0AF3E3752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00EE8-571D-46E8-8634-D25E78EE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B345B-BAC9-4F8E-88A6-22013CED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6785-C603-40B5-83C3-B5AFDF0C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F5446-05EF-4359-9358-99DF64B8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8C335-D2FA-46A9-8AD8-28278FCE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E46A2-B5EC-4C77-81AE-F2C4C6C1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7E34F-5EB3-43A2-B159-8FD9F103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D8CE1-DD07-4CE8-B97F-B94D6D3B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36736-FCC4-4B2F-B8B7-E79499A0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149C9-0B9F-4564-9612-72BD8299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CB9DD-EDF3-42CB-B049-BC487ADA4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9031A-2D5A-41AA-AF19-AF26296EA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D5B6B-0310-435D-961E-20632A595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55F7-C2FE-4609-B823-D02E22DC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B808F-E743-4F80-A967-FED14564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CF6BE-DBBE-41D4-B11B-042E9650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723E2-36BB-422F-B8EC-42B89D85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68ECB-DFF8-42D6-8B6A-B03C9A5A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10AE2-0DD7-49AA-A440-6C6FA4EC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8C85F-A23B-48F7-ACA3-DA4E5FFD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2487A-148F-4F94-9F45-AD3D5669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E9BFF-285C-4EBD-87A5-9BAECC44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CFB17-16B3-45C0-9C38-6438A576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0CBE5-5BAE-4403-905E-0FC16AAB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88E4-65CF-4FE4-B270-3EC67FF1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BD357-B67B-48C8-A449-213F1DDCA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B4454-0F76-4704-B0B7-EB5EBCF8F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24D0C-FB88-4452-B0AE-BDB48282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51048-FEE8-4E10-B4B6-1E366420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1C020-D42B-4196-9668-4FEEC882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FE3EA-AA41-4236-9196-12BA1859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B878F-CCA0-4E7B-B954-7371D14F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2DA35-11C4-4A58-8FCA-ECE06E81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D8D20-BF73-49F5-8343-5AB4F9B6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0EB25-4EEB-41F1-B013-792EA3B0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04F7-959C-487A-AD25-64A7C5D3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FEAE2-0288-45EB-B915-D91E5EB1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A9536-524A-43B6-8B39-6DC7AF9A0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90E65-46DF-49B6-B909-134D7E25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A4C19-A766-40D1-BE66-333C9CD5C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2B846-77DE-4FE1-8073-4A144BCC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21547-CA0A-4EC3-8A06-F7920C86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5519A-685F-4F11-8EC1-2175D5FC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8C154-B20C-47A2-ADC6-10C2A3AF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61008-911B-409F-8883-32EB608C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C564F-6C8B-4395-A363-689D7DAF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D56D-CFD4-41C0-8168-083FBA00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CCABF-2422-4C4A-B71D-A3163A63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51F3B-8FCF-4479-AAB9-EE4240A5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C1367-5A48-4477-9704-BFAF4E3F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2A1F2-ADB8-4E71-9524-17A8F1858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50240-F418-4E30-A5F9-35ECAB4BE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DB4DF-9A4D-4355-8169-C9561C3CF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C5765-8782-48B7-8EDC-043B9105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77D3B-A9A4-4496-AB46-5B2943AE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C4136-0BD6-427A-B898-1FE32FB9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3E98F-3A60-429B-A485-53C64283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129A-7805-49F8-8ABB-5CFA1327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71773-1AEF-46EE-8351-377D7447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95958-53E9-49FA-AD96-E8C16755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1534D-02E0-4A5C-9F8E-0BF790FF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FC197-AC73-4A1C-87CC-1471C2B3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BDF78-BF77-4FBA-A82E-22637270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64CA4-1AC7-4919-A79E-D2E213E2E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591C0-9A4C-40B5-873E-5D9FEF6D4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C7B1A-FF37-4254-BB8C-3D35C7CF4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9AD35-1327-485A-992E-EDE447D0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ADC84-33EC-49E0-AA9B-D165A7BB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9C5A-6FDE-42E9-96E7-2A92A5BC88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E8C7-841B-4412-9227-FCD4C2AEC0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D4EC-BF2A-48A2-9272-C827E8E604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178F-FB2D-4342-8E5B-0CEA6BE85C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D643-E3AB-4EC5-ADA6-23266CBC8C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F53A-F188-4D06-A828-ADD31CBD3B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9C72-0924-4814-8AEF-3DF1C583E3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D8A9-3858-4F8D-A370-51C3AA4701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9DB8-A1F3-4A11-87A3-A1C3744263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4D38-31A8-4E97-8E82-8279E632C7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119F-A334-4842-ACA4-C178BB5E01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C38F-53E2-4E75-94A1-DD64CD8B5E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6500-C541-4FDC-A11E-5A32F65AE2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7EDE-B614-434D-B7ED-50D37B2EDC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B674-C22E-4E31-A09D-E7A44F4404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C2B2-012A-4FFC-944D-1AAFA58453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D736-DE83-45A0-972F-8A44705A5D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6BEE-AD39-493E-9F63-93364538E5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6272-FA10-42B2-A042-267AD08B95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D36D-BF31-4254-B590-1A73C448E9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8121-AE5E-4D50-87EB-7D3868D363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69CB-A882-4D7F-B567-DAE594BB32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01EF-0E75-4A43-9052-0E98C6D521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7FCD-517D-4FAA-AFE0-55FED84BD1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1C8A-6852-42D1-B10B-B9AA05D087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F28F-3A5D-4481-8996-078025F698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90F5-B253-4816-8256-CAABBD1A30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18B2-EF01-404A-A36A-89A60FED4E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4F97-3079-42F8-B40C-4C51664646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94B7-886D-41CF-A9BD-37D754F3E5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D29D-E501-4DC7-98D1-E766FF7376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5FE8-848B-498F-870C-5E73E36F0E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B0A3-6F1D-49C8-AA00-F562D58B40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1BDC-D2FA-45E6-8393-497DB13E6E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9AA3-DD0E-40F2-99A0-F5EB6C2777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9C86-A137-407C-B697-89301156C1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6E49-2852-4914-9609-BD6F964E07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45B4-A2A9-4E6A-82C8-05016421D8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E9EE-79D6-4320-A673-3DBD72EB2D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756D-783A-4E7B-914D-4327A4B516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681280" y="3181320"/>
            <a:ext cx="37814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438120" y="789120"/>
            <a:ext cx="8267760" cy="54482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778040" y="355932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195640" y="393228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166840" y="42926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4716360" y="35593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5133960" y="39322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5105520" y="42926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7667640" y="35593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8085240" y="393228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8056440" y="42926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755640" y="5229360"/>
            <a:ext cx="2087640" cy="3189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826920" y="5661000"/>
            <a:ext cx="2232360" cy="504720"/>
          </a:xfrm>
          <a:prstGeom prst="rect">
            <a:avLst/>
          </a:prstGeom>
          <a:ln w="0">
            <a:noFill/>
          </a:ln>
        </p:spPr>
      </p:pic>
      <p:pic>
        <p:nvPicPr>
          <p:cNvPr id="934" name="图片 60440" descr=""/>
          <p:cNvPicPr/>
          <p:nvPr/>
        </p:nvPicPr>
        <p:blipFill>
          <a:blip r:embed="rId13"/>
          <a:stretch/>
        </p:blipFill>
        <p:spPr>
          <a:xfrm>
            <a:off x="1604880" y="1254240"/>
            <a:ext cx="70484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9410" descr=""/>
          <p:cNvPicPr/>
          <p:nvPr/>
        </p:nvPicPr>
        <p:blipFill>
          <a:blip r:embed="rId1"/>
          <a:stretch/>
        </p:blipFill>
        <p:spPr>
          <a:xfrm>
            <a:off x="128520" y="905040"/>
            <a:ext cx="8886960" cy="56196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3168720" cy="3193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539640" y="2924280"/>
            <a:ext cx="3168720" cy="3189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539640" y="4927680"/>
            <a:ext cx="3168720" cy="3189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539640" y="5359320"/>
            <a:ext cx="3168720" cy="3193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6"/>
          <a:stretch/>
        </p:blipFill>
        <p:spPr>
          <a:xfrm>
            <a:off x="539640" y="5734080"/>
            <a:ext cx="3168720" cy="3189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7"/>
          <a:stretch/>
        </p:blipFill>
        <p:spPr>
          <a:xfrm>
            <a:off x="539640" y="6165720"/>
            <a:ext cx="316872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8:14:41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